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0A22-3277-46AF-83CA-5CDC0AE8C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sk each other and / or look up some words/phrases they don’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44A4-771F-4B0B-A32E-23E98364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ut up the words/phrases and definitions for learners to match physically, or do it on the board  Ley: 1/c  2/a  3/e  4/b  5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643A-1766-47D3-BCE2-8ED1CF7D9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can discuss brie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3059-917F-41DF-AEDC-C5C983DC7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what these two think about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4EB7-FAC2-41D8-A1B1-E3958F1B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de the class into two groups, A and B. Hand out a print out of the text, or get learners to research online. They can prepare their 5 good points in pairs or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78DB-55D2-46EC-A2F6-72A1D4FC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ve learners into pairs A &amp; B. You could monitor for errors and elicit corrections post-ta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94DD-A35D-4DC9-A108-383BF9016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work in groups or pairs. They could then display their work for others to comment on /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C403-1626-4347-BCC7-3D6307E9D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earners do not have access to the internet, you could print off a copy of some of the other arguments for them to read inst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CEC3-01F3-45E9-BEC9-31F61EA08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2.5 – 3 hrs: speaking (15 mins), focus on language + language practice (30 mins), dictation (10 – 15 mins), vocabulary (10 – 15 mins), reading / preparation (15 – 20 mins), speaking + error correction (arguments) (20 - 30 mins), writing (20 –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earch + more speaking / feedback (30 – 45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1B75-65AE-4ACB-9831-56A6EE863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hand out different topics to each pair, or get them to choose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6845-849B-46EF-9D07-B8B04546A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get learners to all come to the board and write some of their sentences. Other learners then read and correct any err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33AC-4176-422B-980D-3E3E3350F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lp learners correct the errors. You can then elicit and add utterance stress and dr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oncept check the difference between “should” and “ought to” (strength?) and the difference between “have to” and “must” (external/internal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17E8-2A48-4284-9BC8-39A6C5D6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5CED-350B-4C47-8923-1A75ABA24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language learners know under the hea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A51C-82EF-4AA8-BF96-AD3022C2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to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EABA-C0B3-414F-8367-B145880E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n’t show learners this slide to correct from until after you have dictated the 5 sentences and learners have checked in pairs. An alternative to a traditional dictation is to do a dictog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B698-2125-426B-977A-545FF7F79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56D-A569-41B1-8DE4-B3B9D5B0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085-8644-4AD0-9B21-4E4D67F5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094-4631-4A6A-8494-42F89D28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637-AE95-42A7-B16C-21ECC173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5D3-BC7E-41D8-AA8F-6166641B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271-0576-4FB3-8717-7FFB25B6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687-8DB6-4D58-AB75-DD7C3D31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CB7-9ED7-4C48-9684-3A227C5D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783-9D70-4B34-899C-4483DE29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088-A388-4811-899E-1B215F4A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952-1EF7-419C-A1F5-2C98EB22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814-08D5-4158-8BD7-6E54D03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B970-9703-4E17-A427-B78CE074A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:_If_you_worry_about_climate_change,_is_it_a_good_idea_to_have_children%3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s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497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Calibri"/>
              </a:rPr>
              <a:t>Argue better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4720" y="530028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63709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What do these words/phrases me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fossil fuels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energy consump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arbon emiss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ustainable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lean ener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 phrase and defini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8920" y="141264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1) </a:t>
            </a: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clean ener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2)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3) carbon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4) energy consum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5) sustain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000" y="1341000"/>
            <a:ext cx="5472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l, oil and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energy w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from natural sources (eg. sun, wind, waves) that produces less C0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protect the planet by not using too many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ount of CO2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If we worry about climate change, should w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hav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childr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100400" y="3343320"/>
            <a:ext cx="4802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Yes, or n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664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ne Hendrixson is the Director of PopDev. PopDev is a centre for critical thinking, learning and working for peace, population and the environment at Hampshire College,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Erica Gies is an independent journalist . She writes about what we need for life: water and energy. She writes for The New York Times, The Guardian, Scientific American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268360" y="3933720"/>
            <a:ext cx="1845000" cy="256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7093080" y="3933720"/>
            <a:ext cx="15094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:  Agree                   B: Disag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this to find </a:t>
            </a: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 good points to support your argument, and compare with your partn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:_If_you_worry_about_climate_change,_is_it_a_good_idea_to_have_children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w pairs :  A &amp; B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alibri"/>
              </a:rPr>
              <a:t>Argue!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 remember a) should/ought to + infi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) language to agree/dis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arguments.jpg"/>
          <p:cNvPicPr/>
          <p:nvPr/>
        </p:nvPicPr>
        <p:blipFill>
          <a:blip r:embed="rId1"/>
          <a:stretch/>
        </p:blipFill>
        <p:spPr>
          <a:xfrm>
            <a:off x="5580000" y="1413000"/>
            <a:ext cx="343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rite a response to these comments on an online discussion foru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ll says: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Lately I haven’t been able to sleep because I’m so worried about climate change. Surely these problems would all be solved if people stopped being so selfish having more and more childr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hy says: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What a horrible thing to say! It’s not children who are causing climate change, it’s big business. What we need to do is stop them and make them more sustain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remember to use modal verbs and language to agree or disagr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d another argu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it and make note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ES points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a few more argumen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new internationalist.jpg"/>
          <p:cNvPicPr/>
          <p:nvPr/>
        </p:nvPicPr>
        <p:blipFill>
          <a:blip r:embed="rId2"/>
          <a:stretch/>
        </p:blipFill>
        <p:spPr>
          <a:xfrm>
            <a:off x="6659640" y="18900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Choose one of the topics from today’s lesson (children, climate change, food, toys, or any of the arguments you read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Decide on a letter you want to write – who to? w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rite the letter. Make sure it explains very clearly what you want to s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Check your letter very carefully for erro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Send i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Lesson men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rter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in courses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ramm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modal ver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angu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agree and disagre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ocabula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or the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ad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prepare for argu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even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ssert: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ri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comment to discussion for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main course.jpg"/>
          <p:cNvPicPr/>
          <p:nvPr/>
        </p:nvPicPr>
        <p:blipFill>
          <a:blip r:embed="rId1"/>
          <a:stretch/>
        </p:blipFill>
        <p:spPr>
          <a:xfrm>
            <a:off x="324000" y="285264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 a topic and argu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196640"/>
            <a:ext cx="4321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Countrie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ood – meat or vegetabl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6228"/>
                </a:solidFill>
                <a:latin typeface="Calibri"/>
              </a:rPr>
              <a:t>Toys – same for girls and boy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46c0a"/>
                </a:solidFill>
                <a:latin typeface="Calibri"/>
              </a:rPr>
              <a:t>Car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ducation – private or fr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Politics –Labour or Conservati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8480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84807"/>
                </a:solidFill>
                <a:latin typeface="Calibri"/>
              </a:rPr>
              <a:t>TV programmes – which are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504d"/>
                </a:solidFill>
                <a:latin typeface="Calibri"/>
              </a:rPr>
              <a:t>Animals – cat or do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Languages - which is easi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arguments.jpg"/>
          <p:cNvPicPr/>
          <p:nvPr/>
        </p:nvPicPr>
        <p:blipFill>
          <a:blip r:embed="rId1"/>
          <a:stretch/>
        </p:blipFill>
        <p:spPr>
          <a:xfrm>
            <a:off x="7093080" y="5267160"/>
            <a:ext cx="18000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mplete these sentences in pairs with some of the things you said in your argum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70028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think we                  should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hould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) We really                   ought to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) In my opinion, we    have to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) Everyone                    mus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st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alibri"/>
              </a:rPr>
              <a:t>Language 1: modal verb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pattern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al verb + 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468360" y="2349000"/>
            <a:ext cx="5688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Is the grammar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I think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We really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ou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 In my opinion,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have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We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must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n’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76720" y="2349000"/>
            <a:ext cx="4391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corre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stop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learn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accept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driv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these statements – do you 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191592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1/ I think we should all be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2/ We really ought to stop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3/ In my opinion, we have to learn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4/ We must accept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5/ We shouldn’t drive on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92d050"/>
                </a:solidFill>
                <a:uFillTx/>
                <a:latin typeface="Calibri"/>
              </a:rPr>
              <a:t>Language 2: agreeing and disagreeing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5564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Language for agreeing and disagree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         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completely 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hink so t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otally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think so, ac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alibri"/>
              </a:rPr>
              <a:t>Dictation – agree or dis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196640"/>
            <a:ext cx="8712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re are too many people in the worl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mate change is a big problem at the mo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people don’t have so many children, climate change won’t be such a big probl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shouldn’t have childr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have the right to have as many children as they wa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5:23:44Z</dcterms:created>
  <dc:creator>IT Technical Support</dc:creator>
  <dc:description/>
  <dc:language>en-US</dc:language>
  <cp:lastModifiedBy>Linda Ruas</cp:lastModifiedBy>
  <cp:lastPrinted>2015-03-11T09:31:56Z</cp:lastPrinted>
  <dcterms:modified xsi:type="dcterms:W3CDTF">2015-03-11T19:26:37Z</dcterms:modified>
  <cp:revision>62</cp:revision>
  <dc:subject/>
  <dc:title>Arguments</dc:title>
</cp:coreProperties>
</file>